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FF3-FA01-43DF-BFD7-68EAF02D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4C2-11C3-457C-982F-EB43EB28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73C-1026-4730-A703-BECAE450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FEE-BAFC-4A08-9745-06D28665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F96-2B3D-44DC-82B3-04B02A9F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179-3D8D-465E-B79C-8004A8AA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43E-EED0-4E42-893E-D699D03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0AC-A38E-4036-8922-881AA253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B2F-BE72-48A6-811D-A445068D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3C7-23D5-48A2-BA76-87EE09A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05D-F2BD-4BA8-82EE-AD1D1CDC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3EE-851A-4392-BEB4-B969F62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CD8-C0C5-4BA9-B733-E115D7DC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ismology.harvard.edu/CMTsearch.html" TargetMode="External"/><Relationship Id="rId2" Type="http://schemas.openxmlformats.org/officeDocument/2006/relationships/hyperlink" Target="http://www.iris.edu/" TargetMode="External"/><Relationship Id="rId3" Type="http://schemas.openxmlformats.org/officeDocument/2006/relationships/hyperlink" Target="http://geoscope.ipgp.jussieu.fr/" TargetMode="External"/><Relationship Id="rId4" Type="http://schemas.openxmlformats.org/officeDocument/2006/relationships/hyperlink" Target="http://www.orfeus-eu.org/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a18"/>
                </a:solidFill>
                <a:latin typeface="Times New Roman"/>
              </a:rPr>
              <a:t>Calculation of Synthetic Seismograms and Surface wave Phase velocities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AN-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731040"/>
            <a:ext cx="74674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600" rIns="120600" tIns="60120" bIns="60120" anchor="b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Yann Capdeville, Jean-Paul Montagner, Ylong Q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Dept. Sismologie, I.P.G., Paris; F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0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610480" cy="76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tt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  (+ 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requencie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unction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(r,t)= |n,l,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3 quantum numbers (k={n,l,m}) =&gt;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∫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.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x =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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isplacement: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,l,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|n,l,m&gt; exp(-i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= {U( 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/</a:t>
            </a:r>
            <a:r>
              <a:rPr b="0" lang="en-US" sz="2000" spc="-1" strike="noStrike">
                <a:solidFill>
                  <a:srgbClr val="ffea18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{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- 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99080" y="1363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rem_color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57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Times New Roman"/>
              </a:rPr>
              <a:t>Seismic Source and Structure  Studies</a:t>
            </a:r>
            <a:br>
              <a:rPr sz="2800"/>
            </a:b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( r ) cos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 /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ffea18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exp(-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/2Q) 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.F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ource Term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.F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=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: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eismic moment tensor,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 deformation t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eismology.harvard.edu/CMTsearch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Data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ris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geoscope.ipgp.jussieu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orfeus-eu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rcRect l="8051" t="0" r="0" b="0"/>
          <a:stretch/>
        </p:blipFill>
        <p:spPr>
          <a:xfrm rot="16200000">
            <a:off x="6147360" y="3224520"/>
            <a:ext cx="30481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720" y="68580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Calculation of Rayleigh wave Phase velo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1080" y="2070000"/>
            <a:ext cx="618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t) = ∫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-∞</a:t>
            </a:r>
            <a:r>
              <a:rPr b="0" lang="en-US" sz="2400" spc="-1" strike="noStrike" baseline="30000">
                <a:solidFill>
                  <a:srgbClr val="e5f528"/>
                </a:solidFill>
                <a:latin typeface="Times New Roman"/>
              </a:rPr>
              <a:t>+∞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A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exp{-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t-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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}d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421080"/>
            <a:ext cx="73692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The total phase is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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sourc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 instrumental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  =&gt;     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c(</a:t>
            </a:r>
            <a:r>
              <a:rPr b="0" lang="en-US" sz="32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055520"/>
            <a:ext cx="659772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152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s: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nm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synthetic seismogram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filter_qin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station_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20600" y="684360"/>
            <a:ext cx="7101000" cy="548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76880" y="1364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vphase_q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25080" y="228600"/>
            <a:ext cx="67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This code can be easily general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9264" r="0" b="9264"/>
          <a:stretch/>
        </p:blipFill>
        <p:spPr>
          <a:xfrm>
            <a:off x="1447920" y="1355760"/>
            <a:ext cx="6172200" cy="388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41280" y="586728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You can start to make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5:51:20Z</dcterms:created>
  <dc:creator>claude allegre</dc:creator>
  <dc:description/>
  <dc:language>en-US</dc:language>
  <cp:lastModifiedBy>claude allegre</cp:lastModifiedBy>
  <dcterms:modified xsi:type="dcterms:W3CDTF">2005-09-05T09:40:30Z</dcterms:modified>
  <cp:revision>11</cp:revision>
  <dc:subject/>
  <dc:title>PowerPoint Presentation</dc:title>
</cp:coreProperties>
</file>