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98F-2444-459F-94C9-F0840ACE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32B-07ED-4190-A0B6-E99819C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6B6-C5A4-4493-A2FF-4F689B4A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178-23BF-42B5-B80C-C1EBF70D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519-7C89-4BD8-9C18-5FB5379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478-BDD2-4E05-B149-6AA4A30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64B-5A4D-4B0B-8DA4-6EAC00E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BFE-2927-41CE-8634-CF2A706D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0BE-7C4C-46BC-AF25-93136A9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B7F-E7F6-40C5-8DAB-C2F17060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C0E-E019-4AD7-A148-1F4440C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D95-BD14-4CA9-AFDF-635BEDB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1B16-E63B-4220-B01D-974257806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1676520"/>
          <a:ext cx="8839080" cy="33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83908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17240" y="3048120"/>
            <a:ext cx="48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by V.Červený and J. Janský, Charles University, Prag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685800"/>
          <a:ext cx="891540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5638680" y="1676520"/>
            <a:ext cx="2895840" cy="1873080"/>
            <a:chOff x="5638680" y="1676520"/>
            <a:chExt cx="2895840" cy="1873080"/>
          </a:xfrm>
        </p:grpSpPr>
        <p:sp>
          <p:nvSpPr>
            <p:cNvPr id="47" name=""/>
            <p:cNvSpPr/>
            <p:nvPr/>
          </p:nvSpPr>
          <p:spPr>
            <a:xfrm>
              <a:off x="5638680" y="1676520"/>
              <a:ext cx="76320" cy="18730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67280" y="190512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(</a:t>
              </a:r>
              <a:r>
                <a:rPr b="0" i="1" lang="cs-CZ" sz="1800" spc="-1" strike="noStrike">
                  <a:solidFill>
                    <a:srgbClr val="9933ff"/>
                  </a:solidFill>
                  <a:latin typeface="Times New Roman"/>
                </a:rPr>
                <a:t>each line corresponds to one depth</a:t>
              </a: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57200" y="138240"/>
            <a:ext cx="7643520" cy="1538280"/>
            <a:chOff x="457200" y="138240"/>
            <a:chExt cx="7643520" cy="1538280"/>
          </a:xfrm>
        </p:grpSpPr>
        <p:sp>
          <p:nvSpPr>
            <p:cNvPr id="50" name=""/>
            <p:cNvSpPr/>
            <p:nvPr/>
          </p:nvSpPr>
          <p:spPr>
            <a:xfrm>
              <a:off x="457200" y="457200"/>
              <a:ext cx="3048120" cy="1143000"/>
            </a:xfrm>
            <a:custGeom>
              <a:avLst/>
              <a:gdLst/>
              <a:ahLst/>
              <a:rect l="l" t="t" r="r" b="b"/>
              <a:pathLst>
                <a:path w="1920" h="720">
                  <a:moveTo>
                    <a:pt x="0" y="720"/>
                  </a:moveTo>
                  <a:cubicBezTo>
                    <a:pt x="800" y="420"/>
                    <a:pt x="1600" y="120"/>
                    <a:pt x="19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685440" y="457200"/>
              <a:ext cx="4038840" cy="1219320"/>
              <a:chOff x="685440" y="457200"/>
              <a:chExt cx="4038840" cy="1219320"/>
            </a:xfrm>
          </p:grpSpPr>
          <p:sp>
            <p:nvSpPr>
              <p:cNvPr id="52" name=""/>
              <p:cNvSpPr/>
              <p:nvPr/>
            </p:nvSpPr>
            <p:spPr>
              <a:xfrm rot="5400000">
                <a:off x="1142640" y="990360"/>
                <a:ext cx="228600" cy="1143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95280" y="457200"/>
                <a:ext cx="342900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 rot="5400000">
              <a:off x="2209680" y="1143000"/>
              <a:ext cx="228600" cy="8380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27400" y="457200"/>
              <a:ext cx="3616200" cy="1012680"/>
            </a:xfrm>
            <a:custGeom>
              <a:avLst/>
              <a:gdLst/>
              <a:ahLst/>
              <a:rect l="l" t="t" r="r" b="b"/>
              <a:pathLst>
                <a:path w="2278" h="638">
                  <a:moveTo>
                    <a:pt x="0" y="638"/>
                  </a:moveTo>
                  <a:lnTo>
                    <a:pt x="227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3276360" y="1066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429000" y="457200"/>
              <a:ext cx="342900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67080" y="456840"/>
              <a:ext cx="37339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2200" y="1522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Dep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03240" y="15228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152280"/>
              <a:ext cx="28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7280" y="13824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/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3840" y="152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685880" y="3695760"/>
            <a:ext cx="74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s model smoothing (spline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886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7160" y="3984480"/>
            <a:ext cx="2500200" cy="570600"/>
            <a:chOff x="227160" y="3984480"/>
            <a:chExt cx="2500200" cy="570600"/>
          </a:xfrm>
        </p:grpSpPr>
        <p:sp>
          <p:nvSpPr>
            <p:cNvPr id="67" name=""/>
            <p:cNvSpPr/>
            <p:nvPr/>
          </p:nvSpPr>
          <p:spPr>
            <a:xfrm>
              <a:off x="304920" y="3984480"/>
              <a:ext cx="228960" cy="188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60" y="4427640"/>
              <a:ext cx="12243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8760" y="4278600"/>
              <a:ext cx="11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MIN, XST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18920" y="4114800"/>
            <a:ext cx="40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9640" y="434340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" y="4390920"/>
            <a:ext cx="5269680" cy="307080"/>
            <a:chOff x="228600" y="4390920"/>
            <a:chExt cx="5269680" cy="307080"/>
          </a:xfrm>
        </p:grpSpPr>
        <p:sp>
          <p:nvSpPr>
            <p:cNvPr id="73" name=""/>
            <p:cNvSpPr/>
            <p:nvPr/>
          </p:nvSpPr>
          <p:spPr>
            <a:xfrm>
              <a:off x="228600" y="4607640"/>
              <a:ext cx="1063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47080" y="4607640"/>
              <a:ext cx="379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80480" y="4390920"/>
              <a:ext cx="29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SOUR, ZSOUR,TSOUR,REPS  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(S)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17480" y="4572000"/>
            <a:ext cx="48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type of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2360" y="3984480"/>
            <a:ext cx="4604400" cy="898920"/>
            <a:chOff x="252360" y="3984480"/>
            <a:chExt cx="4604400" cy="898920"/>
          </a:xfrm>
        </p:grpSpPr>
        <p:sp>
          <p:nvSpPr>
            <p:cNvPr id="78" name=""/>
            <p:cNvSpPr/>
            <p:nvPr/>
          </p:nvSpPr>
          <p:spPr>
            <a:xfrm>
              <a:off x="1747800" y="3984480"/>
              <a:ext cx="225360" cy="203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2360" y="4848120"/>
              <a:ext cx="1871640" cy="6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7600" y="4606920"/>
              <a:ext cx="22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DIP, MOMENT, STRIKE, R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28160" y="4800600"/>
            <a:ext cx="45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  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angle range for 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5640" y="5029200"/>
            <a:ext cx="66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numerical code of the elementary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2360" y="3962520"/>
            <a:ext cx="1447920" cy="1299960"/>
            <a:chOff x="252360" y="3962520"/>
            <a:chExt cx="1447920" cy="1299960"/>
          </a:xfrm>
        </p:grpSpPr>
        <p:sp>
          <p:nvSpPr>
            <p:cNvPr id="84" name=""/>
            <p:cNvSpPr/>
            <p:nvPr/>
          </p:nvSpPr>
          <p:spPr>
            <a:xfrm>
              <a:off x="1447920" y="3962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2360" y="526248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5800" y="60948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CODES OF ELEMENTARY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avecode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3186000" cy="218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22520" y="121932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6  1 -2  3  3  2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68800" y="1616040"/>
            <a:ext cx="1964880" cy="1068840"/>
            <a:chOff x="1468800" y="1616040"/>
            <a:chExt cx="1964880" cy="1068840"/>
          </a:xfrm>
        </p:grpSpPr>
        <p:sp>
          <p:nvSpPr>
            <p:cNvPr id="90" name=""/>
            <p:cNvSpPr/>
            <p:nvPr/>
          </p:nvSpPr>
          <p:spPr>
            <a:xfrm>
              <a:off x="1468800" y="1981080"/>
              <a:ext cx="196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1 or 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down         up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666520" y="1616040"/>
              <a:ext cx="762120" cy="3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044160" y="1616040"/>
            <a:ext cx="1628640" cy="1967400"/>
            <a:chOff x="3044160" y="1616040"/>
            <a:chExt cx="1628640" cy="1967400"/>
          </a:xfrm>
        </p:grpSpPr>
        <p:sp>
          <p:nvSpPr>
            <p:cNvPr id="93" name=""/>
            <p:cNvSpPr/>
            <p:nvPr/>
          </p:nvSpPr>
          <p:spPr>
            <a:xfrm>
              <a:off x="3044160" y="2879640"/>
              <a:ext cx="16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number of 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29000" y="1616040"/>
              <a:ext cx="380880" cy="1263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3080" y="1615680"/>
            <a:ext cx="2616120" cy="1069200"/>
            <a:chOff x="4033080" y="1615680"/>
            <a:chExt cx="2616120" cy="1069200"/>
          </a:xfrm>
        </p:grpSpPr>
        <p:sp>
          <p:nvSpPr>
            <p:cNvPr id="96" name=""/>
            <p:cNvSpPr/>
            <p:nvPr/>
          </p:nvSpPr>
          <p:spPr>
            <a:xfrm>
              <a:off x="4033080" y="1981080"/>
              <a:ext cx="261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individual ray 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…P           -…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4722840" y="931320"/>
              <a:ext cx="152280" cy="1521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1000"/>
                <a:gd name="textAreaBottom" fmla="*/ 1481400 h 15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1828800"/>
              <a:ext cx="0" cy="212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4440" y="9144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py of input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560" y="228600"/>
            <a:ext cx="65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an informative output for user‘s 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8000" y="4038480"/>
            <a:ext cx="67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.CODE     E X T E R N A L  C O D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   1  8  3  4  5  5  4  3  2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R X-COORD. TIME  HORIZ.VERT.AMPLIT. HORIZ.VERT.PHASE  T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92283  4444.444   450.473  .1090E+00  .1965E+00  .000  .000  .7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16701  8888.888   724.868  .4450E-01  .1309E+00  .000  .000  .94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6200" y="1676520"/>
            <a:ext cx="5409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PTHS     VELOCITIES P        DENSITIES      SREL     VS/VP     Q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      .000    5.800      .000    2.720     .000     .579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0.000    5.800    6.500    2.720    2.920     .579     .577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5.000    6.500    8.040    2.920    3.320     .577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5.000      .000    8.041    3.320    3.320     .000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0.000      .000    8.042    3.330    3.330     .000     .557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" y="365760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ormation on successfull/unsuccessfull ray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5181480"/>
            <a:ext cx="1066320" cy="228600"/>
            <a:chOff x="2057400" y="5181480"/>
            <a:chExt cx="1066320" cy="228600"/>
          </a:xfrm>
        </p:grpSpPr>
        <p:sp>
          <p:nvSpPr>
            <p:cNvPr id="105" name=""/>
            <p:cNvSpPr/>
            <p:nvPr/>
          </p:nvSpPr>
          <p:spPr>
            <a:xfrm flipH="1">
              <a:off x="2057400" y="5181480"/>
              <a:ext cx="763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1440" y="518148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68720" y="5791320"/>
            <a:ext cx="2768400" cy="596880"/>
            <a:chOff x="1368720" y="5791320"/>
            <a:chExt cx="2768400" cy="596880"/>
          </a:xfrm>
        </p:grpSpPr>
        <p:sp>
          <p:nvSpPr>
            <p:cNvPr id="108" name=""/>
            <p:cNvSpPr/>
            <p:nvPr/>
          </p:nvSpPr>
          <p:spPr>
            <a:xfrm>
              <a:off x="1368720" y="6019920"/>
              <a:ext cx="27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ray declination at the 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447560" y="5791320"/>
              <a:ext cx="6094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95480" y="3200400"/>
            <a:ext cx="3238200" cy="838080"/>
            <a:chOff x="2895480" y="3200400"/>
            <a:chExt cx="3238200" cy="838080"/>
          </a:xfrm>
        </p:grpSpPr>
        <p:sp>
          <p:nvSpPr>
            <p:cNvPr id="111" name=""/>
            <p:cNvSpPr/>
            <p:nvPr/>
          </p:nvSpPr>
          <p:spPr>
            <a:xfrm>
              <a:off x="4572360" y="32004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parameter 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3733920"/>
              <a:ext cx="198144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3428640"/>
              <a:ext cx="7621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840" y="457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14160" y="1295280"/>
            <a:ext cx="4204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365     45.0160       .8301     2.33077   149.93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718     50.0218      1.6318     1.18238    76.067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1427     60.0617      3.2388      .59546    38.31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2204     70.8382      4.9907      .38530    24.79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5386   122.0302     12.1001     .15806    10.178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4360" y="3733920"/>
            <a:ext cx="466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     9000.000000     9000.000000     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205     45.0160       .7197     2.68926   172.999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405     50.0218      1.4155     1.36434    87.773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04     60.0617      2.8086      .68744    44.23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240     70.8382      4.3262      .44583    28.690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2480" y="4572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vidual rays point by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83560" y="29656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440" y="1371600"/>
            <a:ext cx="1304280" cy="2286000"/>
            <a:chOff x="6400440" y="1371600"/>
            <a:chExt cx="1304280" cy="2286000"/>
          </a:xfrm>
        </p:grpSpPr>
        <p:sp>
          <p:nvSpPr>
            <p:cNvPr id="120" name=""/>
            <p:cNvSpPr/>
            <p:nvPr/>
          </p:nvSpPr>
          <p:spPr>
            <a:xfrm flipH="1">
              <a:off x="6400080" y="1371600"/>
              <a:ext cx="152280" cy="228600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2880" y="232416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one 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941840" y="990720"/>
            <a:ext cx="353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o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Z            T       strain       |A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000" y="45720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TING OF THE COMPUTED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fer_sym_papy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626080" cy="53974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895000" y="990720"/>
            <a:ext cx="2789640" cy="3215520"/>
            <a:chOff x="5895000" y="990720"/>
            <a:chExt cx="2789640" cy="3215520"/>
          </a:xfrm>
        </p:grpSpPr>
        <p:sp>
          <p:nvSpPr>
            <p:cNvPr id="126" name=""/>
            <p:cNvSpPr/>
            <p:nvPr/>
          </p:nvSpPr>
          <p:spPr>
            <a:xfrm>
              <a:off x="5895000" y="99072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o    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                    x      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21932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3440" y="1981080"/>
              <a:ext cx="24548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1   read(*,*)dist,dep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angle=dist/180.*3.14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x=(6371.-depth)*sin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y=(6371.-depth)*cos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write(*,*)x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o t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24880" y="1461960"/>
              <a:ext cx="22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gram POSI.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2:39:56Z</dcterms:created>
  <dc:creator>johana</dc:creator>
  <dc:description/>
  <dc:language>en-US</dc:language>
  <cp:lastModifiedBy>johana</cp:lastModifiedBy>
  <dcterms:modified xsi:type="dcterms:W3CDTF">2005-09-03T11:27:57Z</dcterms:modified>
  <cp:revision>4</cp:revision>
  <dc:subject/>
  <dc:title>Bez nadpisu</dc:title>
</cp:coreProperties>
</file>